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CBD-DD3D-4C35-80B8-B7C8478D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4B3-D741-40FD-8CF1-945B561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2DB-1BF2-483D-99C6-772C0B95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AA3-0881-49B4-9BC6-B1C66FD4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BE1-E02D-4D24-BFAA-F470B56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B4F-7760-4B51-9921-A381109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FA7-2E4A-467D-B599-3CCA947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083-04D4-4099-B558-8F489B0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298-684B-4DFE-9A6A-2277872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CD4-1007-40FB-B2D6-E8C6E9A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89B-647F-421D-9E87-5DEEF10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642-8C47-43F8-B2C3-475F804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7EF67E-BCE4-45C3-9D26-C247EEB05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360" y="179280"/>
            <a:ext cx="6480000" cy="648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16200000">
            <a:off x="-1794960" y="2954880"/>
            <a:ext cx="59054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cc6633"/>
                </a:solidFill>
                <a:latin typeface="Arial"/>
              </a:rPr>
              <a:t>Liveabil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ight a liveable spac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like th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wesome.good.is/transparency/web/0904/livable-street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mond Ra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9920" y="1125360"/>
            <a:ext cx="897408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pai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ee upo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actors which you think ar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st importa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determining how liveable your city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think of a factor which is not listed, write it on a sticky-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factors in order of importance, using the diamond rank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your pair is finish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joined up with two other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how each pair has ranked thei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/justify to the group why you have chosen your arran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group, try to achiev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ens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bout the best way to rank 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s there much disagreement about which were the most important factors, and how to rank them? (pairs,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d you manage to resolve any disagreements (achieve consensus)? How did you do this? (pairs,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ight liveability be different for different people/different ti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Melbourne a liveable 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87560" y="1689120"/>
            <a:ext cx="5168880" cy="3479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666880" y="5486400"/>
            <a:ext cx="38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Why no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bout other c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your groups, share any experiences you have about living in another city in Australia or elsewher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this other place more or less liveable than Melbourn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nomist Intelligence Un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rcRect l="0" t="0" r="0" b="47597"/>
          <a:stretch/>
        </p:blipFill>
        <p:spPr>
          <a:xfrm>
            <a:off x="900000" y="1844640"/>
            <a:ext cx="74170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-36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nocle’s Liveability Survey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0" t="13309" r="0" b="0"/>
          <a:stretch/>
        </p:blipFill>
        <p:spPr>
          <a:xfrm>
            <a:off x="2124000" y="148428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rcer Quality of Living surve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22900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bout “un-liveable” c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U Ranking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you think these cities have scored so poo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50003" r="0" b="0"/>
          <a:stretch/>
        </p:blipFill>
        <p:spPr>
          <a:xfrm>
            <a:off x="714240" y="1484280"/>
            <a:ext cx="741708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factors make a city “liveabl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67360" y="28512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60480" y="1441440"/>
            <a:ext cx="635004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the surveys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6792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EI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ncial focus: availability of goods &amp; services, low risk, infrastru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– climate or cost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ercer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 wellbeing: safety, hygiene, education, health care, culture &amp; the environm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ono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fety, public transport, tolerance, environment, urban design, medical c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3:33:36Z</dcterms:created>
  <dc:creator>cmccaw</dc:creator>
  <dc:description/>
  <dc:language>en-US</dc:language>
  <cp:lastModifiedBy>Tamar SPATZ</cp:lastModifiedBy>
  <dcterms:modified xsi:type="dcterms:W3CDTF">2013-07-22T04:53:41Z</dcterms:modified>
  <cp:revision>16</cp:revision>
  <dc:subject/>
  <dc:title>Slide 1</dc:title>
</cp:coreProperties>
</file>